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4E3F-749F-403C-B858-F62442199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1AF6-A57F-4499-998C-11C92F90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C72A-BD24-478B-821D-0B5041770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686D-C1FD-460E-B68B-D1F9492D6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B46C-AD9C-4FBF-B494-8C6D0644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33F7-49A9-438D-86B7-8D50E92F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FD01-874E-4BB3-A8C0-4FC20F38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CC03-623C-40EB-A091-290DC1D3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7EB4-AD1A-46BA-A8F2-B53A0277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0708-7A7E-4B38-863E-F3A010BB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BB91-1D4F-4A23-88FA-4A1C33FF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48F9-8733-49D7-8A9E-BFFEC1A8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545E-AF5A-4F93-AFE1-D58540EAD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sciencemag.org/content/vol294/issue5551/images/large/se5010051002.jpeg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288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Microscopes are instruments designed to produce magnified visual or photographic images of small objec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800" y="4572000"/>
            <a:ext cx="882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microscope must accomplish three 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roduce a magnified image of the speci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eparate the details in the imag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nder the details visible to the human eye or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icroscopy - an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2438280" y="304920"/>
          <a:ext cx="3934080" cy="609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304920"/>
                    <a:ext cx="39340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37800" y="76320"/>
            <a:ext cx="24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 Microsco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93800" y="533520"/>
          <a:ext cx="7512120" cy="58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533520"/>
                    <a:ext cx="751212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Electron Microscop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600200" y="3200400"/>
            <a:ext cx="6019920" cy="2895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72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use of high energy electrons to examine the fine details of objec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18280" y="3013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ajor Types of electron microscop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36576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nning electron microscope (SE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canning electron microscopy (SEM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 of specime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Whole organi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Natural tissue su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Exposed tissue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orrosion ca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324480" y="1295280"/>
            <a:ext cx="2362320" cy="190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324480" y="3505320"/>
            <a:ext cx="23623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038560" y="1523880"/>
            <a:ext cx="2505240" cy="3333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755600" y="4938840"/>
            <a:ext cx="315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M of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nicillium islandicum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3040" y="609480"/>
            <a:ext cx="38289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ransmission electron microscopy (TEM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the observation of molecules within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the magnification of objects in the order of 100, 000’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876920" y="4114800"/>
            <a:ext cx="3809880" cy="2425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676520" y="4343400"/>
            <a:ext cx="14475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Full Size Image"/>
          <p:cNvPicPr/>
          <p:nvPr/>
        </p:nvPicPr>
        <p:blipFill>
          <a:blip r:embed="rId1"/>
          <a:stretch/>
        </p:blipFill>
        <p:spPr>
          <a:xfrm>
            <a:off x="228600" y="533520"/>
            <a:ext cx="4267080" cy="3938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24280" y="152280"/>
            <a:ext cx="4087800" cy="46483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33520" y="4952880"/>
            <a:ext cx="83055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resentative EM images of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C3000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vrPt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pAVRPTO), immunogold-labeled with the AvrPto antibody. In situ immunogold labeling was done after bacteria were grown i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r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inducing medium for 4 hours, supplemented with (A) no SA, (B) SA for 4 hours, or (C and D) SA for 1 hour. Dark dots are 15-nm gold particles in (A) and (C) and 10-nm gold particles in (B) and (D). Arrows indicate Hrp pili attached to rod-shaped bacteria (only a portion of the bacterium is shown, surrounded by dark stain). Scale bars, 100 n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21:31:52Z</dcterms:created>
  <dc:creator>Xin Li</dc:creator>
  <dc:description/>
  <dc:language>en-US</dc:language>
  <cp:lastModifiedBy>nexhips</cp:lastModifiedBy>
  <dcterms:modified xsi:type="dcterms:W3CDTF">2007-11-28T23:31:14Z</dcterms:modified>
  <cp:revision>21</cp:revision>
  <dc:subject/>
  <dc:title>PowerPoint Presentation</dc:title>
</cp:coreProperties>
</file>